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5120" y="990720"/>
            <a:ext cx="868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28600" y="27000"/>
            <a:ext cx="1523880" cy="88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2952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EI Air Quality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K. Pun, C. Seigneur, S.-Y. Chen, M. 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Data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Triangl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Febr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wnloading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019920" cy="558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572000" cy="36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20688600">
            <a:off x="4190760" y="4343040"/>
            <a:ext cx="158760" cy="380880"/>
          </a:xfrm>
          <a:prstGeom prst="upArrow">
            <a:avLst>
              <a:gd name="adj1" fmla="val 26389"/>
              <a:gd name="adj2" fmla="val 1382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mmun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made available on the web in 2005 in association with HEI's RfA “Studies to Compare Components and Characteristics of Particulate Matter Associated with Health Effe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community also includes air quality planning and research (U.S. and abroad),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requent concer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of 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of measurement methods (e.g., carb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ty i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s in monitoring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updates planned until end of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 and Related Da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urrently 2000-200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’s Speciation Trends Network (and Supplemental Si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ient measurements of PM, ions, carbon,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bl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(SLAMS/NAMS/PAMS):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ology (EPA or N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hei.aer.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1000080"/>
            <a:ext cx="66294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tions of STN Core Si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5586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1143000"/>
            <a:ext cx="28195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m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tial Distribution of Annual P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lfate (2006 on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over”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on of bas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114440" y="480060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688600">
            <a:off x="6400440" y="4419360"/>
            <a:ext cx="158760" cy="380880"/>
          </a:xfrm>
          <a:prstGeom prst="upArrow">
            <a:avLst>
              <a:gd name="adj1" fmla="val 26389"/>
              <a:gd name="adj2" fmla="val 1382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590920" y="5409720"/>
            <a:ext cx="3581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 Site to See Summary Graph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4343400" cy="2443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529080"/>
            <a:ext cx="4572000" cy="326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5251320" cy="5867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 Sites with Certain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05520" y="10663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“Latitude/Longitude”  or “Cities” tab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18400" b="68865"/>
          <a:stretch/>
        </p:blipFill>
        <p:spPr>
          <a:xfrm>
            <a:off x="4572000" y="2895480"/>
            <a:ext cx="4267080" cy="1828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20688600">
            <a:off x="2361960" y="2057040"/>
            <a:ext cx="158760" cy="380880"/>
          </a:xfrm>
          <a:prstGeom prst="upArrow">
            <a:avLst>
              <a:gd name="adj1" fmla="val 26389"/>
              <a:gd name="adj2" fmla="val 1382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ing Sites with Certain Data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8680" y="12193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located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438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ve Site Query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467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racting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of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, major species,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 bl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located or nearby gaseous and meteorological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14445"/>
          <a:stretch/>
        </p:blipFill>
        <p:spPr>
          <a:xfrm>
            <a:off x="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5:45:35Z</dcterms:created>
  <dc:creator>Betty Pun</dc:creator>
  <dc:description/>
  <dc:language>en-US</dc:language>
  <cp:lastModifiedBy>Joe Tikvart</cp:lastModifiedBy>
  <dcterms:modified xsi:type="dcterms:W3CDTF">2008-02-11T14:29:32Z</dcterms:modified>
  <cp:revision>55</cp:revision>
  <dc:subject/>
  <dc:title>Further Analyses of the CENRAP Simulations</dc:title>
</cp:coreProperties>
</file>